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C712-AD4B-4E7E-9C13-0D16A48FC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nadian Army Particip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Canadian Army participated directly in several major battles/campaigns, chiefly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War Against Japan 1941-1945  (more than one group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ng Kong 19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pa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eutians Campaign 1943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A (Alask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eppe 194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alian Campaign 1943-1945 (more than one group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tle of Sic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thern Ita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al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o River Campa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ssi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ri Vall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vance to Florenc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thic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mini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rth-West Europe 1944-1945 (more than one group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ce, Netherlands, Northern German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tle of Normand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c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nel Por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tle of the Scheld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lgium and Netherland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jmegen Sali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tle of the Rhine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nal Phas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48E2-F926-49D5-86D5-8AE41AE4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DE59-FE49-4EC3-9374-220D3338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193C-63E8-47A2-8714-F28FECAA6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6C36-86F2-42F0-A867-4B4C5F445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B5F0-8640-4326-8775-AED7B5EE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BAB6-E461-466C-88A7-E5D6BB24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558B-6DAC-4CD0-B422-5441E9AA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9270-0B93-42F6-8E8F-57A07236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4F06-85B4-48B8-9F90-C08C9159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5FAB-BEEB-422E-98BB-E503D7F2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8483-6AEF-489B-B938-3CD3FBB7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FB4E-D2C1-4CC7-BA40-F256733A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B1E1-9226-448B-AEC3-8C6539CD5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09480" y="685800"/>
            <a:ext cx="3657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 War Against Japan 1941-1945  (more than one gro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ng Kong 1941 (Ch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utians Campaign 1943 USA (Alas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ppe 1942 (Fr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talian Campaign 1943-1945 (more than one gro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tle of Sicily (Ita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ern 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o River Campaign (Ita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sino (Ita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ri Valley (Ita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 to Florence (Ital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19720" y="380880"/>
            <a:ext cx="419076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 Rimini Line (Ita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rth-West Europe 1944-1945 (France, Netherlands, Northern Germany) more than on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. Battle of Normandy (Franc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 Channel Ports (Fr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. Battle of the Scheldt (Belgium and Netherla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. Nijmegen Salient (Netherla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. Battle of the Rhineland (Germa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. Final Phase (Germa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l the story of what happene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 of the battle within the country (m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country’s involvement in the war (how and why they were in the batt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the country part of the allied or axis for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did the battle take place and the consequence resulting from batt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Canadian soldiers died and were wounded during the batt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were the leaders of the batt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women play any role with the batt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ype of weaponry was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making your own “documentary” using Photo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Your Own Words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 images and text to tell the sto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URL’s for your bibliograp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the background music you could use.  Try finding music from the war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bibliography slide at the end of the Photosto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use your first names on the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load to the For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20:35:47Z</dcterms:created>
  <dc:creator>NBDOE</dc:creator>
  <dc:description/>
  <dc:language>en-US</dc:language>
  <cp:lastModifiedBy>NBDOE</cp:lastModifiedBy>
  <dcterms:modified xsi:type="dcterms:W3CDTF">2008-02-18T01:25:35Z</dcterms:modified>
  <cp:revision>5</cp:revision>
  <dc:subject/>
  <dc:title>Slide 1</dc:title>
</cp:coreProperties>
</file>